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99CE-C5A3-4132-B86C-9B73769F8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0ED4-DD5B-4CCA-AF42-8B70C3ECC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C01-DA21-4A1E-8A40-37B5B855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4DD-2DFF-43AB-A024-FCD1E495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7FE-950E-4369-A815-C3CE3093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42A-004B-4454-A501-4DF6C052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9AB-DFD9-4D55-81B3-2E2D9B20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62A-B59F-49F1-9D6E-CC5D8B2D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F61-4D22-44EF-9AF8-04CBE6C1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CA1-F607-4D0A-A349-C502163D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0CB-E75B-46E3-8C41-E9A9A45C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A40-0D27-4F52-A7CB-78811EB9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79C-CA78-4A44-AA41-99235D8A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3C2-AFEA-44E8-A4C6-A4C4933E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5639-A662-4A3C-8466-3456DD994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rrah Shabb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152280" y="3352680"/>
            <a:ext cx="1600200" cy="85104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s es Farrah.Yo tengo quince años.No tengo hermanas.Yo vivo en Astor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2"/>
          <p:cNvSpPr/>
          <p:nvPr/>
        </p:nvSpPr>
        <p:spPr>
          <a:xfrm>
            <a:off x="0" y="3048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6"/>
          <p:cNvSpPr/>
          <p:nvPr/>
        </p:nvSpPr>
        <p:spPr>
          <a:xfrm>
            <a:off x="152280" y="4191120"/>
            <a:ext cx="1600200" cy="276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0"/>
          <p:cNvSpPr/>
          <p:nvPr/>
        </p:nvSpPr>
        <p:spPr>
          <a:xfrm>
            <a:off x="2362320" y="29718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Quién quiere venir a mi casa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2209680" y="251460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uenos Dias yo estoy cans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743200" y="4191120"/>
            <a:ext cx="3733920" cy="7617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i yo quiero.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Podemos ver una pelicula? Ci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9" descr="Photo on 2011-10-21 at 13.53 #2.jpg"/>
          <p:cNvPicPr/>
          <p:nvPr/>
        </p:nvPicPr>
        <p:blipFill>
          <a:blip r:embed="rId2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 gusta pintar mis uñas.¿Donde esta tu cas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2" descr="Photo on 2011-10-21 at 13.46.jpg"/>
          <p:cNvPicPr/>
          <p:nvPr/>
        </p:nvPicPr>
        <p:blipFill>
          <a:blip r:embed="rId3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43434"/>
                </a:solidFill>
                <a:latin typeface="Arial"/>
              </a:rPr>
              <a:t>Sus uñas son bonitas y purpuras.Hasta Lu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6"/>
          <p:cNvSpPr/>
          <p:nvPr/>
        </p:nvSpPr>
        <p:spPr>
          <a:xfrm>
            <a:off x="22860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Hola cómo están mis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3" descr="Photo on 2011-11-29 at 13.54.jpg"/>
          <p:cNvPicPr/>
          <p:nvPr/>
        </p:nvPicPr>
        <p:blipFill>
          <a:blip r:embed="rId4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209680" y="3276720"/>
            <a:ext cx="37339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Podemos escuchar musica de One Direc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los son guapos y talentuos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7:03Z</dcterms:modified>
  <cp:revision>113</cp:revision>
  <dc:subject/>
  <dc:title>Profile</dc:title>
</cp:coreProperties>
</file>